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1B5-7B90-4D0C-BB70-2F6306BD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AA7-A366-4EBF-BA75-E6D4A33F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64967-7D87-43A7-A803-E37D7DFA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63747-B0A9-4F82-8ACC-49927FB7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0B14E-6476-47B4-9264-1E71430D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48D2-5DCF-4CBD-A81F-33686746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16442-28D4-4BA1-8BFA-3C626762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07562-58D5-4770-8190-3C4B807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431C1-9739-4D1F-9DCF-D9E2A9BE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1B79D-AD4A-4D42-8779-DAF9237F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B3080-22BC-4435-91FD-969D5300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2592C-7BB5-463F-8C91-5255BADC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EA4-8AEF-4D9F-A021-B28294E5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0A52C-9E0C-41F5-98FB-068D98BB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D9069-ABE0-479A-A715-1DAF7581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CE3C0-A0C2-46EB-BBF1-13164D45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512A2-D996-4206-AFA1-67D1F94A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62F25-BB3A-418F-96C2-78F5967F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70291-D0F2-49F7-845D-F3D32DAC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2D848-EAAA-4596-BAAB-B3FEB166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B4375-EB85-4EB3-B235-BF93A2C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9C834-33B8-4CE1-829D-57970010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5ECED-9EE6-4E80-9213-27A361A7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F84-E46D-45C4-B10E-3606D04A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7D126-20CD-47D7-BF0F-21A3DAB7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81132-D2FE-476C-A830-7E70C355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427EF-D869-406B-A0D4-500217E3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A96A2-3173-4672-A321-4B8F5B09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B730D-D708-4B61-A54C-49223655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F634A-A868-4D0F-B6BF-75F959FA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5B735-BB55-4600-89F8-436F229C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97B95-B27D-40D7-AB87-6C4637F4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F3DA5-6116-494B-9977-3E596D9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CDBE4-374A-4C43-A42B-49D51E98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2E9C-3C89-4478-B3C4-278881B4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EA5CF-914B-43BA-AF90-DE0ADCF5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86FB2-2EC9-41E9-B599-F02E0482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CDBA8-23CB-4B30-A5DA-307EA167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007B7-C625-4EE6-9CD6-6E48C566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3C1C6-6412-4B65-9176-43F0EAB8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8FFC3-4235-419C-A794-0E33AA99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21CF4-F1CD-4B6C-AF86-37964B08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FA208-9179-45CA-BEF8-2D11B435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FFE33-E4D9-4B05-A356-E64F85CA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85B89-F396-4282-A188-8CA7DB4F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3EF7-2471-4F01-AC82-C197642D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8630A-8E39-4397-A208-7DEB9F9E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63A13-4CDE-47D8-965C-CE59488B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89C22-5A44-4B0D-BE30-B1362EE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0C623-0E52-4B55-A91E-D5636C9C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0BEC6-BA11-434D-AEA6-270E933B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D612E-E324-4459-BC32-A2FD755D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C1700-63BF-4D51-875C-C258AB17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C0BDB-A688-4DBF-84A9-2B1BF1D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10CEF-12E4-47C0-A204-C2DD1A5F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02712-0E4A-41A7-AC82-61014661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CFB7-1B7E-421C-A447-A01D5E3C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89C2F-6BD0-4BC8-B57C-FC0F5586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734FF-4591-4A62-B8E3-DD9AAF4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E2A46-5E25-40F6-9908-607D07B1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6DDA0-F2FC-44C6-B2F7-098C7BAA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6140C-557B-4C2A-9001-4C18BCB2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1DA4B-9675-4EE5-ABFD-88184025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96EA6-196A-4999-A043-B05E490E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B330F-31DA-434F-A6AF-CB9001FB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9E270-A09F-4F2B-BA8C-DA3B595A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B2904-FEDF-48DE-8CCF-F06B6A1C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A5DE-888E-4FA1-9E07-D786F53D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DD281-241C-490E-B24D-6E1389C6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641AB-9929-4EED-BBD7-7C603C64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AFBD5-9180-4D0D-AE66-4F8CE0CF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999FF-0CC3-49EC-90BC-019F4BE3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67211-1538-413F-BE01-F84BFD45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1A4E5-F001-4785-BB50-0536C3D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126FA-9EED-4401-B675-CCDB28CA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CC5F9-6184-4F24-B89F-AEEF55FB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13772-D3BA-4C6B-8BE8-83C85353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A8785-43BA-4593-BCFC-E41D6A10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139A-9A16-4F09-AF30-26DF4B64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F2285-73FB-4F5B-97CD-F3731BDE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69009-5872-4111-8186-0511B159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913D9-53FA-4D8D-B69F-DEA801AD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5E6D4-F3E3-4B52-B6FB-D710C67B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DC706-BB77-4E43-83EA-71FD6C33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46E7E-2D9F-4952-BAC4-04F313DA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78C54-88A3-4103-97EA-07437A7A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856AF-0CB5-4664-B928-C14731B4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5C612-D448-4008-9ECA-9F39B827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3277B-092D-4332-BE5E-56E87895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3DD6-1B4E-42C5-932E-935B0AAC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7D64B-9ACA-45B2-A62E-A70EBD3C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3150E-BA24-4917-BF9D-52DC3027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D0177-4697-40EA-A978-D2D08E67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36624-E70F-4649-A90D-2C822E0E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96430-AE90-4846-A789-4A32158B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45AFB-D8EE-4A64-A3DC-FB1A64A9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38760-5842-4F8C-8256-3EF97659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A8D92-F5D4-4200-BBCE-84245E09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14975-5F2B-45B7-B448-E80C4A1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EDFCA-26B2-400B-A4D3-2A3B6BB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5C2E-A18C-46FE-9E9D-BB0F524A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6CD75-AF0A-4FF8-8960-7BB7568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2E14E-C8F4-463E-A96F-3BFDA842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3C70E0-5392-400E-A722-F8BD4537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96790-2AF5-4382-8C17-1F69253B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840C6-4B55-4469-A821-553C9A81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3B2F3-165B-400A-B1A7-5DFD0905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E80AA-FACC-460B-8DC5-D9DF4227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C980A-E4BE-4FC3-9385-62FBAD8F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15B97-E566-49CD-A251-A97EB5F5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38E31-90AC-4D59-B83C-7BE3B883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B3B-5B38-4DC9-87A9-E1360576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F419-81E7-4A8C-A4C1-8197221F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32D82-49D4-4202-BB71-1524412E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D0905-29CC-473B-B3E0-0F343EF0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58410-EF60-42F7-9C52-BFEB915E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A98A8-22A0-4AEA-878B-8B30C54F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246E2-7A66-4EAB-B48A-A76662A7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EE2BE-12BE-42F4-8FDD-17E41809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EEFC2-1C68-4879-8763-9800E801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E4F9C6-B58C-4FA8-B675-7A645361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2927D-8C85-464C-967E-F5B8325A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6D69C-11A4-4ECD-8078-2EE21D0F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0A05-3D5E-4850-8BD8-652B3F0A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24C99-E7B1-45DC-A400-9E22DB4D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10814-E9A3-48DE-A96E-09125473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FC139-E766-4E66-8218-52F79B05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AA021-D6D9-4994-ADC0-39BC820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8926B-6C33-43B4-A982-D470FF31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7154E-FDFB-436B-8EC0-BF41E943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4BD15-6DE4-4E5A-B074-EB12D09F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FAC18-37D3-48CB-B1F3-79041884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3FBE3-A347-4059-A770-990D357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05A4F-A01B-49D9-936F-D5366634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184F-90E6-4306-B6A6-0A88170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3CA4F-7C56-49F5-BC40-674D1D63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B8EB3-4DC6-4000-B3C8-DBFED111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4BDE4-35DC-44EE-B3FD-E7D8286A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44146-A5A8-4D44-9B68-F4D4003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85820-03B4-433E-B42A-35457AF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A802C-A28C-46C7-AB35-A7A7DCA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8BB7AD-E58A-4276-8520-F9D5EC62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19D637-73E8-4E94-AB23-0FA65E2B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DD0933-C13A-4F12-8360-F736908A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0D0CC9-2FB5-4793-9E57-3B35F5CE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EE37-F12F-4349-841D-984CB47A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BD51B-C4FD-495B-B28F-33EB2AB2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CFF71-3983-4412-97B3-ECE68B5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4982BB-50CF-485D-BE6E-11ACBFC2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F8887D-84B8-4AF1-8DC7-CE62401E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EC8C1-3C75-484F-9E20-3511A88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C1985-912A-41E4-94A7-CE33084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4D27B-17C0-49F9-925E-51CEACFE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1F6126-64DF-4203-8E52-539A0182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D8F209-2355-4116-A2E1-21DD77C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64C52-21FA-4696-AF02-D93BA225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7760-1447-417B-982E-2B382067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2B18D-3537-4A3E-ADD2-72A6FB80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068569-2C8B-4569-A1B6-464B6BAD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5AA968-2B32-4242-84A2-DA74187C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6577D-09FB-4ADD-A20D-E060D803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2E89F-DA03-4325-9ACF-44C2E1D7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4B200-09BE-42CE-BA37-FBBC84D3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15540-C495-4329-AA11-2544B421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B68E2-4CDD-4110-BD05-E3C8815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0E6871-E1C4-4A16-9F9B-63928FD1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664B1-51A5-48CB-A7AF-253E56F6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C829-6D4A-4E75-B82D-3D89F99B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C28903-441E-4786-BB1F-7291E5A3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42B76-28AA-4B48-932D-BD261AFC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83812-86A6-4073-891C-DC427BBD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149F9E-7146-458B-B553-176B1D73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3EECA6-5E71-463F-9401-06954133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445F2A-3B08-482E-B91C-23F9E904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6DE8F5-28AF-4163-901F-06637804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B2B9C4-1AD0-45C6-BFEB-BAEA1CF1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886E2B-E53E-4C5A-AE54-33684C4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F52EC3-113C-4682-96E8-653FFEC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E77B-9180-4A32-92AB-F0EA2CD9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1D07D7-0290-41EC-A8D7-005DDE2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6DBDFA-45BE-491E-AF1D-B91375A0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729129-57F9-4A75-A231-50027FD0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E5E86E-DA98-4B63-ABB1-D88671F3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12E102-6A8A-4C7E-9291-F97591CF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7BC59F-D74D-4925-B2BD-D1958CD3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A7267B-E157-4DAE-AEF5-D424C474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73F015-11B0-4039-B9F1-81213E21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9C0455-8337-4A16-8B3C-9DEE9B8A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B31D75-984A-487D-A1BA-90C516F1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064F-0A1D-44F4-93AC-DBD39BC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1CB63C-A42B-401E-8B0A-A9C16242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1D7044-AA8F-477C-A65A-04EC957A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BC9558-499E-41C2-B1B2-0DCC97C7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A3F1F2-43FE-4CCA-9107-430D9EC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6B7EDF-3E49-4DA9-A357-965CCE8B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595A22-800D-4DEE-BD68-00A0BAFA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37B6AD-3301-4DBC-A294-5E5398FC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7F75-DEB8-4EC6-B3F9-241D0747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5B82-24C0-41C1-A344-F67F821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966-906B-424F-8B3B-6E1E2FF8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27D4-A5FA-4E07-8B41-F205B8F6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2F98-FA22-468D-A57F-A72EB58D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4799-DE3A-44B7-B96C-364CC327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320C-E6B0-4627-82D6-6A61F4E4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2863-A1EE-4B98-B569-65D81C1A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F4FB-9023-4FC8-9479-DCD559E7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5A29-8C27-4F0C-B133-C97AF223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ABC3-DCAF-443A-BCB2-ADB29E8F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70B9-FC4D-45C8-87BC-98ED21A7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F4029-257E-4A10-BAE3-B4323B56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1E6-090F-40AD-8362-C812FC43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9FC0D-A328-4E6F-A900-C2FDCC12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D7B81-F779-43CF-BCBF-DAD37F9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2FA0-A695-4B4C-BA74-73BFB4A3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0DC31-5F55-4571-B215-F5055EB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28AA-CB61-4D82-89DA-A2558679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62CD-95D4-4D95-9EF3-057F21D8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C673-8E34-45F9-A02D-85E3668C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3339-FB0E-4E98-B15B-ABE21883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2109-8E8B-4253-A345-8A9534ED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6C0E-09EB-4935-AACD-9B640EAA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059-6C46-40D4-89C3-B704B71F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9E62-0ACB-4FC1-835A-55D21A14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5758F-CFF2-4A8A-B3AD-020976BD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A06EB-1994-47A1-B4AA-29E02362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10D53-B47D-4661-A522-EBABF45A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FBDF3-FC2F-4841-AC69-7C18F07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A8B3-E7A8-4433-AF69-60F64A6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6BD94-FC48-44E1-8DCB-9DB6E88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203A6-04A5-4C89-B575-8FE081F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5903D-1685-492A-B1D1-B86368A6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31B0-62DD-4F8F-8D96-072E3764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612-41E4-4E32-820C-3D3C25EC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99084-4B56-4904-963F-ECF0713D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37847-DE78-4503-8FCB-03812829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A817D-9D4B-4412-A00D-72188D1C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8E022-62A6-4426-BA73-998F644A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879F-E054-4118-B205-592EEC43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50F04-B3A9-4C87-BB06-41988214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3A6FF-CC39-4C33-8610-D94F2A73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B22A-569C-40A0-98E9-7A71F84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43ECD-6C84-4AF8-953B-CD7AE2F5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B3E58-EE11-425F-A3DD-7C0D90DA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F72-1932-4756-8E5E-64CEFE01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D4743-0DEC-4E48-AFEE-1016FE6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AA21F-7AC8-4DE8-B093-85C34983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8F28-C90F-4648-A1A9-CFA34D8C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65127-F16C-4EE0-A0C4-36605782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D01D0-5BC7-4D4A-A4B4-CDF715E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8DAE0-A17E-4FC1-BBE2-27E6CCD8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5D86A-42C2-4168-A43E-70D3D773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79643-25D0-44FD-9BC9-E0AE1AC1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0B91E-D233-464E-B5DC-EE520C62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6E06E-0B3D-471E-BC29-91540EC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9AA-2929-4B7A-8A16-47D7AC0A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60D00-48BC-4065-B1E7-71207DD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E50EA-9860-4227-9447-54FD3B9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2373D-3EA6-43E2-A451-8BE6CD30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EE9E-A7D9-4E96-8E08-D1B76B26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52BC-DB5F-4277-A64F-8A4CA285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623E2-87D4-4A20-B51B-FCDABDAD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3F303-6E9D-4B30-A8EB-3A2EDA2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4B07C-F14D-4AD3-B5A5-A6AC1D1A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CC884-1AEC-4AC8-B45A-D1263882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A68B7-008B-4AA2-9474-459208D5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BD5-670A-4EDA-A29D-E308454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DFF9E-77E0-45F4-A98C-F48CC687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75AE-A416-47AF-9941-6729C91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8DE1A-C890-4672-9F00-499AED8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A1299-42A3-452B-B7F8-EE8187B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2B2FD-5A13-48BF-9B88-8E6240E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A6571-202E-4931-AB23-57188D76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5A780-B86C-453C-8670-965D5D0E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76CCA-9C3B-413F-A65C-641C6A64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65602-CA0F-4A0B-A8C2-F045F45C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59AC5-2DC6-4A61-9700-12010CFB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C7B2-D0B3-4F05-A852-91963E78D1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2CAA-7BC4-46D9-966C-0EA3490EFB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989C-7AF9-498E-9B83-19EBF687C2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6B37-3F58-424A-9DAB-4BC2134498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CC68-CEA2-4411-B06B-60B65B7C4A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A52C-7EA9-4C06-82F9-CA3B7BF385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A270-DCA2-4468-8358-816123F66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28F3-C066-4C45-8EE7-6DAABFCA3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87EF-B156-4F84-9C40-7EADA5856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A9C4-EE5B-4DD2-897D-2522157274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434F-A017-44C1-BEE2-1644026D1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8BCB-3ED8-4FDF-A46B-87AE2BC435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E2F7-2E35-4027-B1DD-2F73948C19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9DF4-00BE-43EE-A9A8-0C64F0B5A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1489-12B6-488A-8E52-DFC437BD96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9F3-D18B-40B0-B54D-EAD80E3B35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9473-DB6A-4E61-A7BF-FE89ABD554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F616-FBB4-4483-9081-A267445781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DB28-EACC-433D-BE16-7C480F72D1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8D96-CA6E-4840-81DA-B0E4C183AB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A7F8-8391-44BE-A9BB-A4DEB1983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E896-FA2F-41C8-8FF5-64BDDB296E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D19E-E8D3-4ADC-B1D5-374176DC96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452F-EB5F-4A87-8E64-1A74466952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3BBE-CCF5-446B-97AC-6A69FFC07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F9F1-1B50-4083-B1A6-DFFABF9C2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5C4-35D6-4862-8A1D-480BF77BBD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BBE5-0C66-4B19-BD76-473C0039E1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3890-011B-4A82-AEE2-E2EB579F8C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F87A-67FD-4368-8656-57A2DC6B3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FBF2-8A4F-4C3C-AA0E-E57060E843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7897-B1FE-4881-85EE-45ABA1599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5CCA-FD3F-4E6C-9399-3A17452732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5789-631E-4C89-92D5-9C7D19E5E3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D257-F1FF-40A4-A5DC-B47862FD62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9771-12BB-4CE5-B771-688A92A382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96FA-9D8D-43BA-A700-3B942BC64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66F5-7267-4E47-A85B-7A8C6AD1F1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6D6-5817-40F7-A0E4-B03EE891AA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0AF6-4955-4FA4-BADB-27B5DA596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3609-7EA6-4236-BCEE-9B1EE609B1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B613-82B5-4DB1-B278-870675E44D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309760" y="2971800"/>
            <a:ext cx="4524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16000" y="584280"/>
            <a:ext cx="8713800" cy="62373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2411280" y="1139760"/>
            <a:ext cx="1081080" cy="4111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2700360" y="2290680"/>
            <a:ext cx="1081080" cy="4111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826920" y="2852640"/>
            <a:ext cx="1081080" cy="4111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3132000" y="2852640"/>
            <a:ext cx="1081080" cy="4111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2268360" y="3990960"/>
            <a:ext cx="1081440" cy="4111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7"/>
          <a:stretch/>
        </p:blipFill>
        <p:spPr>
          <a:xfrm>
            <a:off x="1908000" y="4581360"/>
            <a:ext cx="1511640" cy="4114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8"/>
          <a:stretch/>
        </p:blipFill>
        <p:spPr>
          <a:xfrm>
            <a:off x="1720800" y="5734080"/>
            <a:ext cx="2160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85760" y="1467000"/>
            <a:ext cx="8771040" cy="3924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1728720" cy="4111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1152720" cy="4111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3276720" y="2622600"/>
            <a:ext cx="934920" cy="4111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1332000" y="3774960"/>
            <a:ext cx="1727280" cy="4111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6"/>
          <a:stretch/>
        </p:blipFill>
        <p:spPr>
          <a:xfrm>
            <a:off x="1908000" y="4335480"/>
            <a:ext cx="648000" cy="4111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7"/>
          <a:stretch/>
        </p:blipFill>
        <p:spPr>
          <a:xfrm>
            <a:off x="7093080" y="4351320"/>
            <a:ext cx="647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190440" y="1133640"/>
            <a:ext cx="8763120" cy="45907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3"/>
          <a:stretch/>
        </p:blipFill>
        <p:spPr>
          <a:xfrm>
            <a:off x="6300720" y="285264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4"/>
          <a:stretch/>
        </p:blipFill>
        <p:spPr>
          <a:xfrm>
            <a:off x="2340000" y="340056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5"/>
          <a:stretch/>
        </p:blipFill>
        <p:spPr>
          <a:xfrm>
            <a:off x="3492360" y="4005360"/>
            <a:ext cx="505080" cy="4111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6"/>
          <a:stretch/>
        </p:blipFill>
        <p:spPr>
          <a:xfrm>
            <a:off x="5003640" y="4581360"/>
            <a:ext cx="50508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57320" y="1133640"/>
            <a:ext cx="882792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85760" y="1209600"/>
            <a:ext cx="87710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33280" y="1714680"/>
            <a:ext cx="8675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81080" y="641520"/>
            <a:ext cx="8781840" cy="61228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5050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257040" y="1428840"/>
            <a:ext cx="8629920" cy="4000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504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19240" y="2338560"/>
            <a:ext cx="8705520" cy="21808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50508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1" descr=""/>
          <p:cNvPicPr/>
          <p:nvPr/>
        </p:nvPicPr>
        <p:blipFill>
          <a:blip r:embed="rId1"/>
          <a:stretch/>
        </p:blipFill>
        <p:spPr>
          <a:xfrm>
            <a:off x="190440" y="1442880"/>
            <a:ext cx="8763120" cy="39722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2"/>
          <a:stretch/>
        </p:blipFill>
        <p:spPr>
          <a:xfrm>
            <a:off x="971640" y="2622600"/>
            <a:ext cx="1224000" cy="4111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3"/>
          <a:stretch/>
        </p:blipFill>
        <p:spPr>
          <a:xfrm>
            <a:off x="5724360" y="2637000"/>
            <a:ext cx="935280" cy="411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4"/>
          <a:stretch/>
        </p:blipFill>
        <p:spPr>
          <a:xfrm>
            <a:off x="1547640" y="3774960"/>
            <a:ext cx="3384720" cy="411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5"/>
          <a:stretch/>
        </p:blipFill>
        <p:spPr>
          <a:xfrm>
            <a:off x="2484360" y="4913280"/>
            <a:ext cx="3095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233280" y="2300400"/>
            <a:ext cx="8675640" cy="22572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2"/>
          <a:stretch/>
        </p:blipFill>
        <p:spPr>
          <a:xfrm>
            <a:off x="971640" y="2881440"/>
            <a:ext cx="2592360" cy="4111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1085760" y="4019400"/>
            <a:ext cx="259236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3:0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